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F0F9-8CE5-4E5F-916D-F7E4C730B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0C91-1A65-492C-922F-4E2E29FAA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22A6-43C9-4B7A-9F1F-7005B592B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98A5-5019-48AE-A06B-BE909A515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9970-008F-496F-BD49-B17A461D3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083A-E8EF-406F-9E23-00285C142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1368-671D-4A6E-B3E5-EBCBE5966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8FE7-2BBB-4C3F-A1D1-5C64D80D1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DC7E-C081-451E-AE9B-E98378DF9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36888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908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1160" y="17431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9520" y="17431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36888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1160" y="336888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9520" y="336888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74312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74312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8908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36888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336888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8908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1160" y="17431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9520" y="17431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336888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1160" y="336888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9520" y="336888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908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36888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1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74312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0" y="4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.4 Population and Growth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5"/>
          <p:cNvSpPr/>
          <p:nvPr/>
        </p:nvSpPr>
        <p:spPr>
          <a:xfrm>
            <a:off x="0" y="4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.1 Ecologists Study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160" y="174312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533520" y="79524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KEY CONCEP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s grow in predictable patter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bhspe-0514UO"/>
          <p:cNvPicPr/>
          <p:nvPr/>
        </p:nvPicPr>
        <p:blipFill>
          <a:blip r:embed="rId1"/>
          <a:stretch/>
        </p:blipFill>
        <p:spPr>
          <a:xfrm>
            <a:off x="1143000" y="1832040"/>
            <a:ext cx="6781680" cy="449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2000" y="786960"/>
            <a:ext cx="889164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hanges in a population</a:t>
            </a:r>
            <a:r>
              <a:rPr b="1" lang="ja-JP" sz="2400" spc="-1" strike="noStrike">
                <a:solidFill>
                  <a:srgbClr val="186496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s size are determined by immigration, births, emigration, and deaths. 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28720"/>
            <a:ext cx="3886200" cy="339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ze of a population is always chang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factors affect the size of a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_x0007_809.jpg                                                        0006B018&#9;Macintosh                      BEB7E0B0:"/>
          <p:cNvPicPr/>
          <p:nvPr/>
        </p:nvPicPr>
        <p:blipFill>
          <a:blip r:embed="rId2"/>
          <a:stretch/>
        </p:blipFill>
        <p:spPr>
          <a:xfrm>
            <a:off x="4267080" y="1866960"/>
            <a:ext cx="375624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2000" y="789120"/>
            <a:ext cx="889164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Population growth is based on available resources.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362240"/>
            <a:ext cx="861048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growth is a rapid population increase due to an abundance of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bhspe-051404-002"/>
          <p:cNvPicPr/>
          <p:nvPr/>
        </p:nvPicPr>
        <p:blipFill>
          <a:blip r:embed="rId2"/>
          <a:stretch/>
        </p:blipFill>
        <p:spPr>
          <a:xfrm>
            <a:off x="533520" y="2743200"/>
            <a:ext cx="3517920" cy="3198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bhspe-051404-001"/>
          <p:cNvPicPr/>
          <p:nvPr/>
        </p:nvPicPr>
        <p:blipFill>
          <a:blip r:embed="rId3"/>
          <a:stretch/>
        </p:blipFill>
        <p:spPr>
          <a:xfrm>
            <a:off x="4352760" y="2819520"/>
            <a:ext cx="4257720" cy="28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stic growth is due to a population facing limited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bhspe-051404-004"/>
          <p:cNvPicPr/>
          <p:nvPr/>
        </p:nvPicPr>
        <p:blipFill>
          <a:blip r:embed="rId1"/>
          <a:stretch/>
        </p:blipFill>
        <p:spPr>
          <a:xfrm>
            <a:off x="2152800" y="1905120"/>
            <a:ext cx="4628880" cy="462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ing capacity is the maximum number of individuals in a population that the environment can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bhspe-0514da-001"/>
          <p:cNvPicPr/>
          <p:nvPr/>
        </p:nvPicPr>
        <p:blipFill>
          <a:blip r:embed="rId1"/>
          <a:stretch/>
        </p:blipFill>
        <p:spPr>
          <a:xfrm>
            <a:off x="1295280" y="2655720"/>
            <a:ext cx="6705720" cy="39736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533520" y="17524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pulation crash is a dramatic decline in the size of a population over a short period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2000" y="914400"/>
            <a:ext cx="889164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Ecological factors limit population growth. 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61048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miting factor is something that keeps the size of a population dow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33520" y="2362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ity-dependent limiting factors are affected by the number of individuals in a given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bhspe-051404-010"/>
          <p:cNvPicPr/>
          <p:nvPr/>
        </p:nvPicPr>
        <p:blipFill>
          <a:blip r:embed="rId2"/>
          <a:stretch/>
        </p:blipFill>
        <p:spPr>
          <a:xfrm>
            <a:off x="2133720" y="3352680"/>
            <a:ext cx="4572000" cy="315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ity-dependent limiting factors are affected by the number of individuals in a given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533520" y="257796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sitism and 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533520" y="1714680"/>
            <a:ext cx="25905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8" descr="_x0018_0443_bhspe-051404.p1.gif                                       00066E95&#9;Macintosh                      BEB7E0B0:"/>
          <p:cNvPicPr/>
          <p:nvPr/>
        </p:nvPicPr>
        <p:blipFill>
          <a:blip r:embed="rId1"/>
          <a:stretch/>
        </p:blipFill>
        <p:spPr>
          <a:xfrm>
            <a:off x="3048120" y="1803240"/>
            <a:ext cx="5410080" cy="406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3520" y="911160"/>
            <a:ext cx="861048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ity-independent limiting factors limit a popula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growth regardless of the den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bhspe-051404-008"/>
          <p:cNvPicPr/>
          <p:nvPr/>
        </p:nvPicPr>
        <p:blipFill>
          <a:blip r:embed="rId1"/>
          <a:stretch/>
        </p:blipFill>
        <p:spPr>
          <a:xfrm>
            <a:off x="3733920" y="1828800"/>
            <a:ext cx="4724280" cy="34495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533520" y="1701720"/>
            <a:ext cx="38862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usual we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ural disa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uma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10Z</dcterms:created>
  <dc:creator>McDougal Littell</dc:creator>
  <dc:description/>
  <dc:language>en-US</dc:language>
  <cp:lastModifiedBy>PIRRAGLIA, MELISSA</cp:lastModifiedBy>
  <dcterms:modified xsi:type="dcterms:W3CDTF">2013-02-21T18:39:49Z</dcterms:modified>
  <cp:revision>145</cp:revision>
  <dc:subject/>
  <dc:title>PowerPoint Presentation</dc:title>
</cp:coreProperties>
</file>